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521-2C5C-4110-B11F-BC6CCDFD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417-0A8C-48A6-877A-0B139F9D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45E-BC68-4F16-9140-CC70CB5A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B26-A0F4-47A1-81B8-DEDFD062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699-D0F2-4F76-87ED-069F1F8A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64C-D7C2-4084-9138-3E7A9C82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043-1691-4DC9-9084-5C47791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5AE-06B7-4E8B-B060-CDF6B124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052-CF02-4636-904D-B3B32D4C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980-2896-4AA3-9BFC-A2A926F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8DA-573A-45BC-8505-9C81809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F85-A1F3-42D1-863B-833339B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CD48-3F17-497F-A37D-FE50BBFB5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Arial"/>
              </a:rPr>
              <a:t>Человеческий голос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Arial"/>
              </a:rPr>
              <a:t>как музыкальный инструмен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Нестерова Ю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СОШ №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омкость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ОМКОСТЬ ГОЛОС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убъективное слуховое ощущение интенсивности (силы) звука, образующегося в результате работы голосового аппарата. Профессиональное владение голосом предполагает использование в речи (или пении) множества градаций громкости, большого динамического (громкостного) диапаз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совые связки человека, в отличии от оркестровых музыкальных инструментов, при выступлении певца должны делать то, чего ни один струнный музыкальный инструмент делать не способен: изменять длину и натяжение колеблющихся связок одновременно, чтобы изменять частоту колеб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голосовой аппарат человека является достаточно сложным музыкальным аппаратом, и аналогов которому до сих пор не создано, при всем этом, замкнут этот сложнейший звуковой инструмент в очень маленькие габариты, что еще раз подчеркивает его слож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совой аппарат человека является не только органом выражения своих чувств, эмоций, помощником в становлении в обществе, средством коммуникаций, но и является сложнейшей физическ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жно ли влиять на голос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 «потерявший несколько нот»; губернатор, баллотирующийся в президенты; продавец - зазывала со слабым голосом: курильщик, у которою обнаружили опухоль; наконец, любой другой человек с расстройством функции голосового аппарата может получить эффективную медицинскую помощь. Этим он будет обязан ученым и врачам, научившимся лучше понимать природу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то, что человеческий голосовой аппарат мал по размерам, он способен производить столь же различные и прекрасные звуки, как и разнообразные музыкальные инструменты. Человеческий голос может порождать такой впечатляющий диапазон звуков благодаря тому, что он полагается на нелинейные эффекты, в которых малый сигнал на входе производит большое воздействие на вы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ук — упругие волны, распространяющиеся в среде и создающие в ней механические колеб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вуки, которые мы слышим каждый день, очень разнообразны. Любой из нас достаточно отчетливо отличает так называемые музыкальные звуки от шумов. К первым, например, относится пение, звучание натянутых струн музыкальных инструментов, свист. Шумы возникают при взрывах, работе двигателей внутреннего сгорания, шипении змеи, скрипе несмазанных дверных петель и т. д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D_music_VIOLIN"/>
          <p:cNvPicPr/>
          <p:nvPr/>
        </p:nvPicPr>
        <p:blipFill>
          <a:blip r:embed="rId1"/>
          <a:stretch/>
        </p:blipFill>
        <p:spPr>
          <a:xfrm>
            <a:off x="485928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aksofon"/>
          <p:cNvPicPr/>
          <p:nvPr/>
        </p:nvPicPr>
        <p:blipFill>
          <a:blip r:embed="rId2"/>
          <a:stretch/>
        </p:blipFill>
        <p:spPr>
          <a:xfrm>
            <a:off x="4859280" y="386064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узыкальные зв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17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истый музыкальный звук можно получить с помощью простого прибора, называемого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камертоно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 Ударив молоточком по одной из ветвей камертона, мы услышим музыкальный звук. Постепенно звук ослабевает вследствие затухания колебаний ветвей. Звуковая волна возбуждается колеблющимися ветвями камертон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1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2360" cy="2686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2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3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омкость звука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ределяется амплитудой колебаний давления. Чем сильнее удар молоточка по камертону, тем громче звучит камертон. А более сильный удар вызывает колебания большей амплитуды. Можно не сомневаться, что и громкость любого звука определяется амплитудой колебаний в звуковой вол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звука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частотой колебаний. Для того чтобы определить, с чем связана определенная высота звука, нужно располагать несколькими камертонами различных размеров. Проводя иглой, прикрепленной к ветви звучащего камертона, вдоль закопченной пластинки, можно заметить, что, чем выше звук, издаваемый камертоном, тем меньше период появляющейся на пластинке синусоиды и, следовательно, тем больше частота колебаний каме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бр (фр. timbre) — окраска звука; один из признаков музыкального звука (наряду с высотой, громкостью). По тембрам отличают звуки одинаковой высоты и громкости, но исполненные или на разных инструментах, или на одном инструменте разными способами, штр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4464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произвести музыкальный звук, любой музыкальный инструмент должен иметь три основных компонента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сточник зву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совершает колебания в воздухе, чтобы произвести звук определенной частоты, которую мы воспринимаем, как высоту тона, вместе с более высокими частотами обертонов,  что тембр (окраску звука)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дин или более резонато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усиливают основную частоту, увеличивая амплитуду колебаний; и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лучающую поверхность или отверс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передают  звук  в окружающее воздушное пространство и в конце концов который достигает уха слуш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альт"/>
          <p:cNvPicPr/>
          <p:nvPr/>
        </p:nvPicPr>
        <p:blipFill>
          <a:blip r:embed="rId1"/>
          <a:stretch/>
        </p:blipFill>
        <p:spPr>
          <a:xfrm>
            <a:off x="4672080" y="133200"/>
            <a:ext cx="4292640" cy="178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r_30-2"/>
          <p:cNvPicPr/>
          <p:nvPr/>
        </p:nvPicPr>
        <p:blipFill>
          <a:blip r:embed="rId2"/>
          <a:stretch/>
        </p:blipFill>
        <p:spPr>
          <a:xfrm>
            <a:off x="4676760" y="1933560"/>
            <a:ext cx="4292640" cy="196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235390709_truba"/>
          <p:cNvPicPr/>
          <p:nvPr/>
        </p:nvPicPr>
        <p:blipFill>
          <a:blip r:embed="rId3"/>
          <a:stretch/>
        </p:blipFill>
        <p:spPr>
          <a:xfrm>
            <a:off x="4665600" y="3922560"/>
            <a:ext cx="432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ОЛОС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546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с является важным средством звуковой (аудио-) коммуникации. Биоакустический феномен, состоящий в том, что звуки, образованные активностью голосовых складок несут информацию об индивидуальных особенностях говорящего: его физическом и эмоционально-психологичес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стоя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нтеллектуальном и социально - культурном уровне, профессиональной и национальной принадлежности. В коммуникативном плане голос, прежде всего, обеспечивает слышимость речи на большем или меньшем расстоянии; причем, в отличие от взгляда, голос может быть обращен одномоментно ко многим участникам коммун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42581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259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in2_1233155029-27899"/>
          <p:cNvPicPr/>
          <p:nvPr/>
        </p:nvPicPr>
        <p:blipFill>
          <a:blip r:embed="rId2"/>
          <a:stretch/>
        </p:blipFill>
        <p:spPr>
          <a:xfrm>
            <a:off x="5867280" y="2997360"/>
            <a:ext cx="2351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оение голосов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96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ортань, являющаяся и органом дыхания, и органом голосообразования, располагается в передней части шеи, ниже подъ­язычной кости, на уровне IV—VI шейных позвонков. Впереди гортани находится поверхностная мышца шеи, сзади — гортанная часть глотки. Спереди и с боков к гортани прилежит щитовидная железа. Гортань при помощи связок и мышц вверху соединена с подъязычной костью, а внизу — с грудиной. При глотании, разговоре, кашле гортань смещается вверх-вниз. Вверху гортань сообщается с глоткой, внизу — переходит в трахе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ые складки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образованы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ыми связками,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окрытыми слизистой оболочкой. Узкое пространство между правой и левой голосовыми складками носит название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ой щел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286160" y="1052640"/>
            <a:ext cx="464976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286160" y="48578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— желудочек гортани; 7 — голосовая складка; 8 — перстнечерпаловидный сустав; 9 — подголосовая полость; 10 — пластинка перстневидного хряща (частично удалена); 14 — преддверие гортани; 16 — надгортан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480" y="285840"/>
            <a:ext cx="4071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376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37:45Z</dcterms:created>
  <dc:creator>Ивашка</dc:creator>
  <dc:description/>
  <dc:language>en-US</dc:language>
  <cp:lastModifiedBy>26073</cp:lastModifiedBy>
  <dcterms:modified xsi:type="dcterms:W3CDTF">2010-05-27T16:39:56Z</dcterms:modified>
  <cp:revision>18</cp:revision>
  <dc:subject/>
  <dc:title>Слайд 1</dc:title>
</cp:coreProperties>
</file>